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6010D7EB-BCB2-4AF6-B34C-D75D3568EEE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13EBC71F-8BAC-40F9-BA75-78B7FEAE4C2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A80-B064-4649-BD04-50E697C0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D55-F232-473F-BB18-2116D956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DE8-0137-40BB-8084-B3F2CA36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110-5E3A-42AA-8F05-183B0C37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AA0-0919-4E37-986B-4CD5B69E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8C3-662C-4A17-9881-4447FDEF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F0A-41F8-4053-A990-5F067743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731-EEA6-4F7A-9743-4012546F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A64-E221-460B-AB66-78828C7C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133-568D-40E2-878C-A6D16B54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3BB-2704-438F-8B95-7C0D426E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208-CC3F-46AD-A485-2E0D0FC8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06304CBD-4984-46D1-BB1D-64FBA38A2B69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24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97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Cserey Janosne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255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09-02-10T18:44:43Z</cp:lastPrinted>
  <dcterms:modified xsi:type="dcterms:W3CDTF">2014-06-08T13:20:19Z</dcterms:modified>
  <cp:revision>179</cp:revision>
  <dc:subject/>
  <dc:title>PowerPoint Presentation</dc:title>
</cp:coreProperties>
</file>