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CEECF282-D01A-4842-AD70-EDA407F44DB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C069DCA7-76DA-4065-966A-702816AB282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F17-4F3C-4147-8984-5E317F8F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01D-ABB3-4719-84B8-98DC38B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33C-A5E9-482D-93ED-6CA35B30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BAB-9DEE-4DDD-824F-36F0D2DF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510-DCE4-4984-9CC1-B3F160B8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C58-455E-4766-BB7A-C6A9AF8A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988-43ED-4482-B42E-86DC22B0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F84-F4A7-4B49-B973-FCE2EA01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3EC-3BAD-4833-91FF-B723628B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199-3625-467F-B06E-5A340827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CC4-FE0E-49D2-BA99-9C841DD2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547-514A-4FC7-A8BF-2147D14D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C200EC37-7F23-4E33-8AAC-6FD3B6B83A45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6-08T13:20:19Z</dcterms:modified>
  <cp:revision>179</cp:revision>
  <dc:subject/>
  <dc:title>PowerPoint Presentation</dc:title>
</cp:coreProperties>
</file>