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74400" y="726840"/>
            <a:ext cx="2511720" cy="362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6400" cy="435132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879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18792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680" bIns="31680" anchor="b">
            <a:noAutofit/>
          </a:bodyPr>
          <a:lstStyle>
            <a:lvl1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DB2678DB-A600-4902-A9A5-483F5A102E37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079"/>
          <p:cNvSpPr/>
          <p:nvPr/>
        </p:nvSpPr>
        <p:spPr>
          <a:xfrm>
            <a:off x="3884760" y="9188280"/>
            <a:ext cx="29718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b">
            <a:noAutofit/>
          </a:bodyPr>
          <a:p>
            <a:pPr algn="r"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fld id="{6F5E3964-33E1-474D-BB11-4AA671321E4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2174760" y="727200"/>
            <a:ext cx="2511720" cy="362556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595400"/>
            <a:ext cx="54864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7667-9EFB-4976-A92B-7AD01317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F5EE-0130-4A2D-A44D-ABE6958D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DA63-AC12-46A1-A87C-816985D5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616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544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8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616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3040"/>
            <a:ext cx="187596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42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FFE3-3E62-4D9F-BF3D-8BEAEDAB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375"/>
              </a:spcBef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0F57-8E81-46F1-8AC0-1114697D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2FC8-395B-4946-8C75-718E188F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9CEE-4797-4808-A344-34408A8B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5B91-8FA5-4634-859A-9D8EC789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880" y="878040"/>
            <a:ext cx="5826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375"/>
              </a:spcBef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78E5-CAD2-4CA4-8D50-378DEF3B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046C-3940-4BBF-8855-BFE83EA2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77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30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05B-745F-4E25-A9F4-D5B68220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880" y="-1400040"/>
            <a:ext cx="5826240" cy="62071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88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54440"/>
            <a:ext cx="284292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5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880" y="5963040"/>
            <a:ext cx="5826240" cy="283860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88000"/>
          </a:bodyPr>
          <a:p>
            <a:pPr indent="0">
              <a:spcBef>
                <a:spcPts val="2375"/>
              </a:spcBef>
              <a:buNone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2B04-2E13-46FF-9615-3B9C451F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880" y="878040"/>
            <a:ext cx="5826240" cy="165096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ctr">
            <a:noAutofit/>
          </a:bodyPr>
          <a:p>
            <a:pPr indent="0" algn="ct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1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880" y="2854440"/>
            <a:ext cx="5826240" cy="59515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rmAutofit fontScale="33000"/>
          </a:bodyPr>
          <a:p>
            <a:pPr marL="325800" indent="-32580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1" marL="707760" indent="-27504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468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•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3" marL="1520280" indent="-216720">
              <a:spcBef>
                <a:spcPts val="2375"/>
              </a:spcBef>
              <a:buClr>
                <a:srgbClr val="000000"/>
              </a:buClr>
              <a:buFont typeface="Times New Roman"/>
              <a:buChar char="–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5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  <a:p>
            <a:pPr lvl="6" marL="1954800" indent="-215640">
              <a:spcBef>
                <a:spcPts val="2375"/>
              </a:spcBef>
              <a:buClr>
                <a:srgbClr val="000000"/>
              </a:buClr>
              <a:buFont typeface="Times New Roman"/>
              <a:buChar char="»"/>
              <a:tabLst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0" lang="en-US" sz="9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9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1440" y="9031320"/>
            <a:ext cx="217512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2920" y="9031320"/>
            <a:ext cx="1428840" cy="652320"/>
          </a:xfrm>
          <a:prstGeom prst="rect">
            <a:avLst/>
          </a:prstGeom>
          <a:noFill/>
          <a:ln w="0">
            <a:noFill/>
          </a:ln>
        </p:spPr>
        <p:txBody>
          <a:bodyPr lIns="263160" rIns="263160" tIns="131760" bIns="131760" anchor="t">
            <a:noAutofit/>
          </a:bodyPr>
          <a:lstStyle>
            <a:lvl1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  <a:defRPr b="0" lang="en-GB" sz="4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fld id="{8FE90EE7-035E-4D9C-A4FE-41100A9938CD}" type="slidenum"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24"/>
          <p:cNvSpPr/>
          <p:nvPr/>
        </p:nvSpPr>
        <p:spPr>
          <a:xfrm>
            <a:off x="836640" y="344520"/>
            <a:ext cx="5329080" cy="865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97"/>
          <p:cNvSpPr/>
          <p:nvPr/>
        </p:nvSpPr>
        <p:spPr>
          <a:xfrm>
            <a:off x="533520" y="1676520"/>
            <a:ext cx="5919840" cy="1339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바탕"/>
              </a:rPr>
              <a:t>,,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Modernizare Strada Kokenyes,, </a:t>
            </a:r>
            <a:r>
              <a:rPr b="1" lang="fr-FR" sz="2400" spc="-1" strike="noStrike">
                <a:solidFill>
                  <a:srgbClr val="000000"/>
                </a:solidFill>
                <a:latin typeface="바탕"/>
              </a:rPr>
              <a:t>Sfantu Gheorghe </a:t>
            </a:r>
            <a:r>
              <a:rPr b="1" sz="2400" spc="-1" strike="noStrike">
                <a:solidFill>
                  <a:srgbClr val="000000"/>
                </a:solidFill>
                <a:latin typeface="바탕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23"/>
          <p:cNvSpPr/>
          <p:nvPr/>
        </p:nvSpPr>
        <p:spPr>
          <a:xfrm>
            <a:off x="533520" y="344520"/>
            <a:ext cx="5715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3160" rIns="263160" tIns="131760" bIns="131760" anchor="t">
            <a:spAutoFit/>
          </a:bodyPr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ENEFICIAR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633760"/>
                <a:tab algn="l" pos="5267160"/>
                <a:tab algn="l" pos="7900920"/>
                <a:tab algn="l" pos="105346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IMARIA MUNICIPIULUI SFANTU GHEORG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8"/>
          <p:cNvSpPr/>
          <p:nvPr/>
        </p:nvSpPr>
        <p:spPr>
          <a:xfrm>
            <a:off x="533880" y="8763120"/>
            <a:ext cx="5802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Times New Roman"/>
              </a:rPr>
              <a:t>ELABORA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Times New Roman"/>
              </a:rPr>
              <a:t>SC TOP PROIECT &amp; CONSULTING - Sfantu Gheorg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WordArt 255"/>
          <p:cNvSpPr txBox="1"/>
          <p:nvPr/>
        </p:nvSpPr>
        <p:spPr>
          <a:xfrm>
            <a:off x="1752480" y="7924680"/>
            <a:ext cx="3429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PERTIZA TEHN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6:50:28Z</dcterms:created>
  <dc:creator>Unknown User</dc:creator>
  <dc:description/>
  <dc:language>en-US</dc:language>
  <cp:lastModifiedBy>lucian</cp:lastModifiedBy>
  <cp:lastPrinted>2009-02-10T18:44:43Z</cp:lastPrinted>
  <dcterms:modified xsi:type="dcterms:W3CDTF">2014-09-08T18:52:05Z</dcterms:modified>
  <cp:revision>180</cp:revision>
  <dc:subject/>
  <dc:title>PowerPoint Presentation</dc:title>
</cp:coreProperties>
</file>