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B6006B8A-89A6-4582-B2F1-5F35C0C29DC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5C471AD6-787A-4418-8A6D-51AFB89E8E8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CEE-A436-441F-BA1C-F525DD4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D66-4025-463F-BB76-E586782D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7AC-D8F4-4219-8BB8-4F995C72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CAC-BC5D-4980-94CD-DCEC1D98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BC0-3DE3-4399-95F1-B55FF7DA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DEF-CA09-4108-B8EA-06496D14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A4F-15E2-41F8-9D43-28A8F8D7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51C-CB3F-4A4F-A653-77D4B8DC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38D-8081-48ED-9EAC-28D4D37C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3E5-A47C-45B7-9ED9-213D606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1C8-81DD-43AA-B04A-3ACF0B6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B1B-FD17-4035-930A-FBD3E2F3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D00A3178-B74C-44A0-B39A-82ED668CFDDF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Stadionulu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7"/>
          <p:cNvSpPr txBox="1"/>
          <p:nvPr/>
        </p:nvSpPr>
        <p:spPr>
          <a:xfrm>
            <a:off x="1887480" y="8048520"/>
            <a:ext cx="331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AV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0-02-28T18:51:42Z</cp:lastPrinted>
  <dcterms:modified xsi:type="dcterms:W3CDTF">2014-09-25T14:35:30Z</dcterms:modified>
  <cp:revision>185</cp:revision>
  <dc:subject/>
  <dc:title>PowerPoint Presentation</dc:title>
</cp:coreProperties>
</file>