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AA198ED4-A04F-4A5F-A23E-F83AF0BED79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D63F27D5-ED0C-4C4D-81AE-2C0480A5B8E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2FD-4E1D-4460-862A-DB36F6DC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63C-E211-4EDF-B0CF-B5705873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1A3-9599-4A43-B3DF-E6E178AA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283-07F0-4ABF-9F09-BDC21E58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D58-165B-47AD-ABE4-27C43EFC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8DD-2B6D-4B66-B0DF-BCB3BFA3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02B-48DE-44D1-B129-28677155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26E-415C-4AFB-94C0-EA0A84D1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AF8-D8D4-4934-9567-F91EEEFB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08A-D5EA-4DA8-8A47-693A887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06D-45CA-4547-A9D1-3C92752A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05B-FD7A-4E7C-889E-4C548576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D2C60B25-6A67-4E81-97BF-D05182D6E658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257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260"/>
          <p:cNvSpPr/>
          <p:nvPr/>
        </p:nvSpPr>
        <p:spPr>
          <a:xfrm>
            <a:off x="533520" y="3276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, MODERNIZ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TRADA ASCHERMAN VENDREI FEREN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IN MUNICIPIUL SFANTU GHEORGH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14-03-28T03:36:24Z</cp:lastPrinted>
  <dcterms:modified xsi:type="dcterms:W3CDTF">2014-03-28T05:16:11Z</dcterms:modified>
  <cp:revision>184</cp:revision>
  <dc:subject/>
  <dc:title>PowerPoint Presentation</dc:title>
</cp:coreProperties>
</file>