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F24A6F3A-E943-4F47-875F-846F72115D0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C7549F8E-ABFF-45FD-B142-C539A6703EE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CC4-2E44-4DB1-85D6-907E6F90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804-D22B-4A8A-9F84-7596EE63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EF6-928C-4B5A-BAFE-27E6CC35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17D-9C1E-4959-A341-1194A35C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281-734C-4DD3-BF0C-4FE22648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FF7-CB53-4F77-A5DF-B0B20D8F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CCF-3DD3-442A-A18A-8AC61FF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20A-CAEF-4AD7-9A6A-EB874F0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5EE-AD25-4EE7-9C10-331A2D1C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E9F-3C48-4788-87C2-29F50B6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3E2-0C91-498A-9899-1A817BC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ABA-A855-49EA-9ACD-BDECF31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CC6425CE-B332-49C6-A764-F93ED591C6B1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257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260"/>
          <p:cNvSpPr/>
          <p:nvPr/>
        </p:nvSpPr>
        <p:spPr>
          <a:xfrm>
            <a:off x="762120" y="3276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Bartok Bela, municipiul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judetul Covasna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0-02-28T18:51:42Z</cp:lastPrinted>
  <dcterms:modified xsi:type="dcterms:W3CDTF">2014-03-27T18:22:35Z</dcterms:modified>
  <cp:revision>183</cp:revision>
  <dc:subject/>
  <dc:title>PowerPoint Presentation</dc:title>
</cp:coreProperties>
</file>