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469-6ACD-4131-80A6-0EB52F26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7D5-7AF2-42A7-B4B1-E2055442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60B-A3B6-4116-97F6-4D7D75AC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295-10E4-4F58-9B58-2B4F5010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57B-3AF3-4038-A0D8-CE750ED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DB0-DDAF-4AA0-BEB5-3A5DF88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07C-FE45-4A12-B7E4-2048AF0C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E2D-336D-416F-9003-C969394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B1A-DE11-4842-A9E5-096D314C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5D7-D864-4DB2-A9C3-410A289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FD2-226C-4E6C-93F7-67A804E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00F-79A1-48DB-8BA2-02AC2FFD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B40E7D77-D8A4-4344-B88D-643D0F8905D8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NICIPIUL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76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Voican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807732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 TEHNIC SI DETALII DE EXECU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1-12-09T21:53:53Z</dcterms:modified>
  <cp:revision>184</cp:revision>
  <dc:subject/>
  <dc:title>PowerPoint Presentation</dc:title>
</cp:coreProperties>
</file>