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46A-22A2-4C11-8BC2-3B2A02FA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1BF-7351-47AD-B06D-9EB071F8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706-A43C-463C-8DED-594D3697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368-E399-4BE1-942C-7513D1A7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CB5-5EA9-4220-AF96-5C04E8B4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5D8-A5DE-4C62-A38F-C9C35BA4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066-AA73-4F92-A4BB-FB3E8944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FD3-2CD5-432D-92AD-3C1A27D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F7B-4F7D-40DF-8EB0-1C915BAC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268-8D96-4E23-B791-869775F5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5D9-CD99-4A8E-B872-1A7E585D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81D-7F08-4CD9-81A7-59501DEE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645247D6-B86D-4FDC-B5DD-092DCE323CE0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NICIPIUL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IECT TEHNIC SI DETALII DE EXECU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2767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Pescarilor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1-12-09T21:53:58Z</dcterms:modified>
  <cp:revision>185</cp:revision>
  <dc:subject/>
  <dc:title>PowerPoint Presentation</dc:title>
</cp:coreProperties>
</file>