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099-2727-4E5B-9CC7-1B6ACC8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D12-51F5-402A-B4BA-7E152A44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487-3E68-4B5E-A9C9-2384B0B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7D8-B455-4513-943E-1D116AD8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C55-D1AB-48E1-B39B-41E0F8E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E90-EAD4-46FB-9D7F-0B12F7F9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CE9-015D-4348-8951-A78DDD56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8FE-3AD6-49B7-BADB-91BD9B8A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218-781B-4F65-A4B2-FD04D79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840-50DE-46FA-A290-16D9021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0AF-DA28-40AD-834F-EFFEB2D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3D0-40AF-439F-B928-8A1D9C4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C7171CC5-746C-4DD1-8604-55C3A0BDD88B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rizantemei , mun.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0:58:23Z</dcterms:modified>
  <cp:revision>184</cp:revision>
  <dc:subject/>
  <dc:title>PowerPoint Presentation</dc:title>
</cp:coreProperties>
</file>